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B30-CDE6-454C-B05C-1C283183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59-DE8A-457A-B42D-F4182CA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604-71D8-4A10-8BC0-9B0F7750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CCE-BF41-44C0-BF02-37B076B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31B-2D08-47CC-8EAC-156CEFE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2BE-1F03-4B6F-B100-0D9E6F3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F4C-5D7D-43C4-99D7-DFCA6FF9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4DE-2186-47EE-BB2F-8286E1B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4CF-2311-47E0-A687-4ECC160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D81-BD00-4E54-AA1B-CFD5965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954-D557-4F49-A0E7-5D6C1EA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5B0-C44D-4DEF-939B-24EFB152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5B2-CEFD-4450-8CF0-43084B59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GCBOE</cp:lastModifiedBy>
  <dcterms:modified xsi:type="dcterms:W3CDTF">2003-04-03T15:19:26Z</dcterms:modified>
  <cp:revision>36</cp:revision>
  <dc:subject/>
  <dc:title>No Slide Title</dc:title>
</cp:coreProperties>
</file>